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5A5-7C04-4D84-93C9-B5419E22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7F4-A954-48C8-839E-41A52BF9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CAA3-9F9A-4220-8A8D-6C0ED4E5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C8B-3427-4834-AEE1-05F785FA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8C54-37DC-4596-966D-7E3E2619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6E35-A976-4000-BF3F-D61F1BD2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18DA-044E-4FF9-9D81-E169E9FE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D6DA-2FBC-49E9-B63C-8994B717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2292-5222-4173-9D63-773B692A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D256-865C-4D70-8B69-8423A450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D840-5C1B-49F7-B71F-A09FF4AD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885-18E2-4342-AB85-02533B09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766F-8ABC-41EA-9EC4-2901679A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DB3C-7D2C-4213-A27A-5B37FC33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4E66-D4B9-4CE0-831B-2A11674D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3CE2-C82C-4CB6-B612-945385D4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B77B-E1AA-4298-9C37-3256603B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A00-1945-4FA8-B8D2-3B97F650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60C-8A85-4395-AC50-6770C130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44E-1671-472B-B164-82E2B8ED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EEB8-C4A1-4766-BFAC-B5E5836F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036-A8BD-46D4-B0A3-FC7ED000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465C-4F63-4AA4-90C3-ED17F6D4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4C9A-8524-4855-AB56-D24C67E0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7EAD-53D0-4338-889D-8CA4425785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E3DE-9E18-4026-BD8D-317DCCD74B6C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бный модул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Дорожная безопа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Урок 3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Мы - пассажиры.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C:\Documents and Settings\Admin\Рабочий стол\img15.jpg"/>
          <p:cNvPicPr/>
          <p:nvPr/>
        </p:nvPicPr>
        <p:blipFill>
          <a:blip r:embed="rId1"/>
          <a:stretch/>
        </p:blipFill>
        <p:spPr>
          <a:xfrm>
            <a:off x="1214280" y="1539720"/>
            <a:ext cx="6786720" cy="48769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4"/>
          <p:cNvSpPr/>
          <p:nvPr/>
        </p:nvSpPr>
        <p:spPr>
          <a:xfrm>
            <a:off x="1071720" y="402840"/>
            <a:ext cx="7000560" cy="57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Кто из пассажиров нарушает ПДД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Admin\Рабочий стол\учебный модуль\0028-028-Dvizhenie-avtomobilja.jpg"/>
          <p:cNvPicPr/>
          <p:nvPr/>
        </p:nvPicPr>
        <p:blipFill>
          <a:blip r:embed="rId1"/>
          <a:stretch/>
        </p:blipFill>
        <p:spPr>
          <a:xfrm>
            <a:off x="500040" y="2214720"/>
            <a:ext cx="3898800" cy="31748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4"/>
          <p:cNvSpPr/>
          <p:nvPr/>
        </p:nvSpPr>
        <p:spPr>
          <a:xfrm>
            <a:off x="928800" y="38880"/>
            <a:ext cx="7286400" cy="1522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Какие действия персонажей говорят о нарушении правил поведения пассажиров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4" name="Picture 3" descr="C:\Documents and Settings\Admin\Рабочий стол\0028-028-Dvizhenie-avtomobilja.jpg"/>
          <p:cNvPicPr/>
          <p:nvPr/>
        </p:nvPicPr>
        <p:blipFill>
          <a:blip r:embed="rId2"/>
          <a:stretch/>
        </p:blipFill>
        <p:spPr>
          <a:xfrm>
            <a:off x="4714920" y="2214720"/>
            <a:ext cx="3746520" cy="3416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Автобус"/>
          <p:cNvPicPr/>
          <p:nvPr/>
        </p:nvPicPr>
        <p:blipFill>
          <a:blip r:embed="rId1"/>
          <a:stretch/>
        </p:blipFill>
        <p:spPr>
          <a:xfrm>
            <a:off x="0" y="1773360"/>
            <a:ext cx="3240000" cy="2054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Метро"/>
          <p:cNvPicPr/>
          <p:nvPr/>
        </p:nvPicPr>
        <p:blipFill>
          <a:blip r:embed="rId2"/>
          <a:stretch/>
        </p:blipFill>
        <p:spPr>
          <a:xfrm>
            <a:off x="5148360" y="1916280"/>
            <a:ext cx="3995640" cy="1755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Трамвай"/>
          <p:cNvPicPr/>
          <p:nvPr/>
        </p:nvPicPr>
        <p:blipFill>
          <a:blip r:embed="rId3"/>
          <a:stretch/>
        </p:blipFill>
        <p:spPr>
          <a:xfrm>
            <a:off x="5580000" y="4508640"/>
            <a:ext cx="3564000" cy="206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Троллейбус"/>
          <p:cNvPicPr/>
          <p:nvPr/>
        </p:nvPicPr>
        <p:blipFill>
          <a:blip r:embed="rId4"/>
          <a:stretch/>
        </p:blipFill>
        <p:spPr>
          <a:xfrm>
            <a:off x="179280" y="43657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МаршрутноеТакси"/>
          <p:cNvPicPr/>
          <p:nvPr/>
        </p:nvPicPr>
        <p:blipFill>
          <a:blip r:embed="rId5"/>
          <a:stretch/>
        </p:blipFill>
        <p:spPr>
          <a:xfrm>
            <a:off x="2987640" y="3500280"/>
            <a:ext cx="2657520" cy="1737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2"/>
          <p:cNvSpPr/>
          <p:nvPr/>
        </p:nvSpPr>
        <p:spPr>
          <a:xfrm>
            <a:off x="250920" y="623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Троллейбус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7956720" y="350028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етро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7740720" y="63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Трамва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250920" y="3716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Автобус рейсовы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3132000" y="5300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аршрутное такс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AutoShape 18"/>
          <p:cNvSpPr/>
          <p:nvPr/>
        </p:nvSpPr>
        <p:spPr>
          <a:xfrm>
            <a:off x="1071720" y="125640"/>
            <a:ext cx="714348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Общественный транспорт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- транспортное средство общего пользования, предназначенное для перевозки по дорогам людей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ОстановкаАвтобуса"/>
          <p:cNvPicPr/>
          <p:nvPr/>
        </p:nvPicPr>
        <p:blipFill>
          <a:blip r:embed="rId1"/>
          <a:stretch/>
        </p:blipFill>
        <p:spPr>
          <a:xfrm>
            <a:off x="74520" y="20001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ОстановкаТрамвая"/>
          <p:cNvPicPr/>
          <p:nvPr/>
        </p:nvPicPr>
        <p:blipFill>
          <a:blip r:embed="rId2"/>
          <a:stretch/>
        </p:blipFill>
        <p:spPr>
          <a:xfrm>
            <a:off x="4643280" y="197640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7"/>
          <p:cNvSpPr/>
          <p:nvPr/>
        </p:nvSpPr>
        <p:spPr>
          <a:xfrm>
            <a:off x="1143000" y="147240"/>
            <a:ext cx="714060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Ждать автобус, троллейбус или трамвай нужно только на остановках – местах, обозначенных специальными знаками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1403280" y="537156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3286080" y="3500280"/>
            <a:ext cx="129708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7846920" y="314316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Picture 12" descr="Постовой_Маленький"/>
          <p:cNvPicPr/>
          <p:nvPr/>
        </p:nvPicPr>
        <p:blipFill>
          <a:blip r:embed="rId3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ПосадкаВАвтобус"/>
          <p:cNvPicPr/>
          <p:nvPr/>
        </p:nvPicPr>
        <p:blipFill>
          <a:blip r:embed="rId1"/>
          <a:stretch/>
        </p:blipFill>
        <p:spPr>
          <a:xfrm>
            <a:off x="1835280" y="1763640"/>
            <a:ext cx="5113080" cy="39513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1000080" y="219960"/>
            <a:ext cx="7215120" cy="172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одходить для посадки к двери можно только после полной остановки транспорта. Не садись в транспорт в последний момент, тебя может прищемить дверями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332000" y="5889960"/>
            <a:ext cx="7504200" cy="71172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Посадка в транспорт требует внимания и осторожност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5" name="Picture 7" descr="Постовой_Маленький"/>
          <p:cNvPicPr/>
          <p:nvPr/>
        </p:nvPicPr>
        <p:blipFill>
          <a:blip r:embed="rId2"/>
          <a:stretch/>
        </p:blipFill>
        <p:spPr>
          <a:xfrm>
            <a:off x="250920" y="4724280"/>
            <a:ext cx="917640" cy="1700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Постовой_Маленький"/>
          <p:cNvPicPr/>
          <p:nvPr/>
        </p:nvPicPr>
        <p:blipFill>
          <a:blip r:embed="rId3"/>
          <a:stretch/>
        </p:blipFill>
        <p:spPr>
          <a:xfrm>
            <a:off x="250920" y="4724280"/>
            <a:ext cx="917640" cy="1700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Постовой_Маленький"/>
          <p:cNvPicPr/>
          <p:nvPr/>
        </p:nvPicPr>
        <p:blipFill>
          <a:blip r:embed="rId4"/>
          <a:stretch/>
        </p:blipFill>
        <p:spPr>
          <a:xfrm>
            <a:off x="17640" y="4724280"/>
            <a:ext cx="115092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ДержисьЗаПоручни"/>
          <p:cNvPicPr/>
          <p:nvPr/>
        </p:nvPicPr>
        <p:blipFill>
          <a:blip r:embed="rId1"/>
          <a:stretch/>
        </p:blipFill>
        <p:spPr>
          <a:xfrm>
            <a:off x="1547640" y="1773360"/>
            <a:ext cx="5832720" cy="32241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8"/>
          <p:cNvSpPr/>
          <p:nvPr/>
        </p:nvSpPr>
        <p:spPr>
          <a:xfrm>
            <a:off x="928800" y="75600"/>
            <a:ext cx="735804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 салон следует заходить спокойно, никого не расталкивая. Возле дверей лучше не стоять. Там тебя будут постоянно задевать те, кто выходит, а открывающаяся дверь может и прищемить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258920" y="5027040"/>
            <a:ext cx="7593120" cy="1623240"/>
          </a:xfrm>
          <a:prstGeom prst="roundRect">
            <a:avLst>
              <a:gd name="adj" fmla="val 1663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Во время движения нужно сидеть, а если нет мест, то необходимо обязательно держаться за поручни. Иначе можно упасть и сильно удариться! При поездке в маршрутном такси вообще стоять ЗАПРЕЩЕНО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Picture 12" descr="Постовой_Маленький"/>
          <p:cNvPicPr/>
          <p:nvPr/>
        </p:nvPicPr>
        <p:blipFill>
          <a:blip r:embed="rId2"/>
          <a:stretch/>
        </p:blipFill>
        <p:spPr>
          <a:xfrm>
            <a:off x="0" y="4724280"/>
            <a:ext cx="1150920" cy="21337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3"/>
          <p:cNvSpPr/>
          <p:nvPr/>
        </p:nvSpPr>
        <p:spPr>
          <a:xfrm>
            <a:off x="3708360" y="1628640"/>
            <a:ext cx="1441440" cy="1008360"/>
          </a:xfrm>
          <a:prstGeom prst="wedgeEllipseCallout">
            <a:avLst>
              <a:gd name="adj1" fmla="val -43722"/>
              <a:gd name="adj2" fmla="val 105592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Ой! Ой!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омогите!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928800" y="32400"/>
            <a:ext cx="7500960" cy="158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Нельзя отвлекать водителя во время движения, мешать другим пассажирам. Ни в коем случае нельзя: покидать автобус, выпрыгивая на ходу, стоять на ступеньках, мешая закрытию дверей,  высовываться в окно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Picture 5" descr="ПассажирыАвтобуса"/>
          <p:cNvPicPr/>
          <p:nvPr/>
        </p:nvPicPr>
        <p:blipFill>
          <a:blip r:embed="rId1"/>
          <a:stretch/>
        </p:blipFill>
        <p:spPr>
          <a:xfrm>
            <a:off x="1908000" y="1928880"/>
            <a:ext cx="5040360" cy="34002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6"/>
          <p:cNvSpPr/>
          <p:nvPr/>
        </p:nvSpPr>
        <p:spPr>
          <a:xfrm>
            <a:off x="1417680" y="5682240"/>
            <a:ext cx="7504200" cy="71172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Когда пассажир соблюдает правила – он в безопасност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Picture 7" descr="Постовой_Маленький"/>
          <p:cNvPicPr/>
          <p:nvPr/>
        </p:nvPicPr>
        <p:blipFill>
          <a:blip r:embed="rId2"/>
          <a:stretch/>
        </p:blipFill>
        <p:spPr>
          <a:xfrm>
            <a:off x="0" y="4437000"/>
            <a:ext cx="130644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Постовой_Маленький"/>
          <p:cNvPicPr/>
          <p:nvPr/>
        </p:nvPicPr>
        <p:blipFill>
          <a:blip r:embed="rId1"/>
          <a:stretch/>
        </p:blipFill>
        <p:spPr>
          <a:xfrm>
            <a:off x="0" y="4437000"/>
            <a:ext cx="1306440" cy="242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Admin\Рабочий стол\учебный модуль\img5.jpg"/>
          <p:cNvPicPr/>
          <p:nvPr/>
        </p:nvPicPr>
        <p:blipFill>
          <a:blip r:embed="rId2"/>
          <a:stretch/>
        </p:blipFill>
        <p:spPr>
          <a:xfrm>
            <a:off x="642960" y="1785960"/>
            <a:ext cx="4000320" cy="3000240"/>
          </a:xfrm>
          <a:prstGeom prst="rect">
            <a:avLst/>
          </a:prstGeom>
          <a:ln w="15840">
            <a:solidFill>
              <a:srgbClr val="cc9900"/>
            </a:solidFill>
            <a:miter/>
          </a:ln>
        </p:spPr>
      </p:pic>
      <p:sp>
        <p:nvSpPr>
          <p:cNvPr id="129" name="AutoShape 4"/>
          <p:cNvSpPr/>
          <p:nvPr/>
        </p:nvSpPr>
        <p:spPr>
          <a:xfrm>
            <a:off x="857160" y="247680"/>
            <a:ext cx="7358040" cy="1117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еревозка детей до 12-летнего возраста в транспортных средствах должна осуществляться с  использованием специальных детских удерживающих устройств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1417680" y="5530320"/>
            <a:ext cx="750420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До 12-летнего возраста в легковом автомобиле ваше место на заднем сидени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Picture 3" descr="C:\Documents and Settings\Admin\Рабочий стол\img5.jpg"/>
          <p:cNvPicPr/>
          <p:nvPr/>
        </p:nvPicPr>
        <p:blipFill>
          <a:blip r:embed="rId3"/>
          <a:stretch/>
        </p:blipFill>
        <p:spPr>
          <a:xfrm>
            <a:off x="4857840" y="1785960"/>
            <a:ext cx="4000320" cy="3000240"/>
          </a:xfrm>
          <a:prstGeom prst="rect">
            <a:avLst/>
          </a:prstGeom>
          <a:ln w="15840">
            <a:solidFill>
              <a:srgbClr val="cc9900"/>
            </a:solidFill>
            <a:miter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6"/>
          <p:cNvSpPr/>
          <p:nvPr/>
        </p:nvSpPr>
        <p:spPr>
          <a:xfrm>
            <a:off x="1417680" y="5530320"/>
            <a:ext cx="750420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рещается перевозить детей до 12-летнего возраста на заднем сиденье мотоцикл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2" descr="C:\Documents and Settings\Admin\Рабочий стол\img4.jpg"/>
          <p:cNvPicPr/>
          <p:nvPr/>
        </p:nvPicPr>
        <p:blipFill>
          <a:blip r:embed="rId1"/>
          <a:stretch/>
        </p:blipFill>
        <p:spPr>
          <a:xfrm>
            <a:off x="714240" y="214200"/>
            <a:ext cx="7786800" cy="4786560"/>
          </a:xfrm>
          <a:prstGeom prst="rect">
            <a:avLst/>
          </a:prstGeom>
          <a:ln w="15840">
            <a:solidFill>
              <a:srgbClr val="cc9900"/>
            </a:solidFill>
            <a:miter/>
          </a:ln>
        </p:spPr>
      </p:pic>
      <p:pic>
        <p:nvPicPr>
          <p:cNvPr id="134" name="Picture 7" descr="Постовой_Маленький"/>
          <p:cNvPicPr/>
          <p:nvPr/>
        </p:nvPicPr>
        <p:blipFill>
          <a:blip r:embed="rId2"/>
          <a:stretch/>
        </p:blipFill>
        <p:spPr>
          <a:xfrm>
            <a:off x="0" y="4437000"/>
            <a:ext cx="130644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Постовой_Маленький"/>
          <p:cNvPicPr/>
          <p:nvPr/>
        </p:nvPicPr>
        <p:blipFill>
          <a:blip r:embed="rId1"/>
          <a:stretch/>
        </p:blipFill>
        <p:spPr>
          <a:xfrm>
            <a:off x="0" y="4437000"/>
            <a:ext cx="1306440" cy="24210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6"/>
          <p:cNvSpPr/>
          <p:nvPr/>
        </p:nvSpPr>
        <p:spPr>
          <a:xfrm>
            <a:off x="1417680" y="5682240"/>
            <a:ext cx="7504200" cy="71172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Не обходите стоящий автобус ни спереди, ни с сзади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857160" y="247680"/>
            <a:ext cx="7358040" cy="1117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Стоящий автобус закрывает собою участок дороги, по которому в тот момент, когда вы решили ее перейти, может проезжать автомобиль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8" name="Picture 2" descr="C:\Documents and Settings\Admin\Рабочий стол\учебный модуль\img27.jpg"/>
          <p:cNvPicPr/>
          <p:nvPr/>
        </p:nvPicPr>
        <p:blipFill>
          <a:blip r:embed="rId2"/>
          <a:stretch/>
        </p:blipFill>
        <p:spPr>
          <a:xfrm>
            <a:off x="571680" y="1928880"/>
            <a:ext cx="392904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Documents and Settings\Admin\Рабочий стол\img27.jpg"/>
          <p:cNvPicPr/>
          <p:nvPr/>
        </p:nvPicPr>
        <p:blipFill>
          <a:blip r:embed="rId3"/>
          <a:stretch/>
        </p:blipFill>
        <p:spPr>
          <a:xfrm>
            <a:off x="4857840" y="1928880"/>
            <a:ext cx="398304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09:32:18Z</dcterms:created>
  <dc:creator>1</dc:creator>
  <dc:description/>
  <dc:language>en-US</dc:language>
  <cp:lastModifiedBy>Admin</cp:lastModifiedBy>
  <dcterms:modified xsi:type="dcterms:W3CDTF">2015-03-29T14:57:24Z</dcterms:modified>
  <cp:revision>41</cp:revision>
  <dc:subject/>
  <dc:title>ОСНОВНЫЕ ПОНЯТИЯ И ТЕРМИНЫ, используемые в правилах дорожного движения</dc:title>
</cp:coreProperties>
</file>